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7EC0B-F75E-4195-B253-E7291CB37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6C31-C93F-4297-9C98-BDBC898BC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B9839-6883-458C-A612-9AACE01E3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9FA0C-42BE-4BAC-930F-392203B1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81FF-9929-4097-8B10-46F74AC1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B14E-EE66-4224-8AE1-2604AF03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03FF-0A29-4DEB-9C17-1025A0830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8CCF-0A50-4C1B-A3C1-E1C48D184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88494-F520-4339-AC33-34ACDA53B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6D67-8378-4DB1-81D8-2383067F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E0381-E9B5-4291-A47A-A52BF32B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DD50-72E5-4DA9-8B57-45AE4B520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E695-1925-48F0-AD73-092220269F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539640" y="1285920"/>
            <a:ext cx="784872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金融期权概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金融期权的主要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金融期权的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节 金融期权的交易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五节 金融期权的套期保值</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标的资产价格在一段特定时期内是否达到了一个特定水平。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2.6</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8.1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2.2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1"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2"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4"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6"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98"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3.4.2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01" name=""/>
          <p:cNvGraphicFramePr/>
          <p:nvPr/>
        </p:nvGraphicFramePr>
        <p:xfrm>
          <a:off x="324000" y="1700280"/>
          <a:ext cx="8424720" cy="3751200"/>
        </p:xfrm>
        <a:graphic>
          <a:graphicData uri="http://schemas.openxmlformats.org/drawingml/2006/table">
            <a:tbl>
              <a:tblPr/>
              <a:tblGrid>
                <a:gridCol w="1707840"/>
                <a:gridCol w="1532160"/>
                <a:gridCol w="882720"/>
                <a:gridCol w="1199880"/>
                <a:gridCol w="1138320"/>
                <a:gridCol w="1000080"/>
                <a:gridCol w="963720"/>
              </a:tblGrid>
              <a:tr h="614160">
                <a:tc>
                  <a:txBody>
                    <a:bodyPr lIns="68400" rIns="68400" tIns="0" bIns="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代码</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名称</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涨幅</a:t>
                      </a:r>
                      <a:r>
                        <a:rPr b="1" lang="en-US" sz="1600" spc="-1" strike="noStrike">
                          <a:solidFill>
                            <a:srgbClr val="ffffff"/>
                          </a:solidFill>
                          <a:latin typeface="Times New Roman"/>
                          <a:ea typeface="宋体"/>
                        </a:rPr>
                        <a:t>%</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卖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量</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308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P-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沽</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1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5</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3020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C-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购</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21</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5.4</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7.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376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3"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5"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07"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1"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3"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5"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8" name="Group 4"/>
          <p:cNvGrpSpPr/>
          <p:nvPr/>
        </p:nvGrpSpPr>
        <p:grpSpPr>
          <a:xfrm>
            <a:off x="1523880" y="2819520"/>
            <a:ext cx="4267080" cy="2361960"/>
            <a:chOff x="1523880" y="2819520"/>
            <a:chExt cx="4267080" cy="2361960"/>
          </a:xfrm>
        </p:grpSpPr>
        <p:sp>
          <p:nvSpPr>
            <p:cNvPr id="119"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2"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7" name="Group 4"/>
          <p:cNvGrpSpPr/>
          <p:nvPr/>
        </p:nvGrpSpPr>
        <p:grpSpPr>
          <a:xfrm>
            <a:off x="1219320" y="2666880"/>
            <a:ext cx="4267080" cy="2361960"/>
            <a:chOff x="1219320" y="2666880"/>
            <a:chExt cx="4267080" cy="2361960"/>
          </a:xfrm>
        </p:grpSpPr>
        <p:sp>
          <p:nvSpPr>
            <p:cNvPr id="128"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1"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6" name="Group 4"/>
          <p:cNvGrpSpPr/>
          <p:nvPr/>
        </p:nvGrpSpPr>
        <p:grpSpPr>
          <a:xfrm>
            <a:off x="1447920" y="2971800"/>
            <a:ext cx="4267080" cy="2361960"/>
            <a:chOff x="1447920" y="2971800"/>
            <a:chExt cx="4267080" cy="2361960"/>
          </a:xfrm>
        </p:grpSpPr>
        <p:sp>
          <p:nvSpPr>
            <p:cNvPr id="137"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9"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0"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5" name="Group 4"/>
          <p:cNvGrpSpPr/>
          <p:nvPr/>
        </p:nvGrpSpPr>
        <p:grpSpPr>
          <a:xfrm>
            <a:off x="1371600" y="2666880"/>
            <a:ext cx="4267080" cy="2362320"/>
            <a:chOff x="1371600" y="2666880"/>
            <a:chExt cx="4267080" cy="2362320"/>
          </a:xfrm>
        </p:grpSpPr>
        <p:sp>
          <p:nvSpPr>
            <p:cNvPr id="146"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8"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9"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4" name="Group 4"/>
          <p:cNvGrpSpPr/>
          <p:nvPr/>
        </p:nvGrpSpPr>
        <p:grpSpPr>
          <a:xfrm>
            <a:off x="1523880" y="2666880"/>
            <a:ext cx="4267080" cy="2438280"/>
            <a:chOff x="1523880" y="2666880"/>
            <a:chExt cx="4267080" cy="2438280"/>
          </a:xfrm>
        </p:grpSpPr>
        <p:sp>
          <p:nvSpPr>
            <p:cNvPr id="155"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7"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8"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69"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1"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8"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79"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0"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1"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3"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4"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5"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6"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5"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6"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7"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8"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99"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0"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1"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3"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5"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2"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3"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4"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5"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6"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7"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9"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0"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1"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2"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4"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3"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4"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5"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6"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7"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8"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39"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0"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2"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mtwang</cp:lastModifiedBy>
  <dcterms:modified xsi:type="dcterms:W3CDTF">2023-05-08T02:10:42Z</dcterms:modified>
  <cp:revision>198</cp:revision>
  <dc:subject/>
  <dc:title>没有幻灯片标题</dc:title>
</cp:coreProperties>
</file>